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ct" ContentType="image/x-pict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E7CE-C51D-42C1-91B5-BB9869520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293D-075F-4F90-89DD-E7D997726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4565-5FC6-4E23-9984-E16730AF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F3B5-3310-403E-9E57-75D138AD4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8508-CC55-4A2C-B368-30D0B5388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672-6DF1-414B-A2FA-182FB701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E92-3B02-440C-A6AB-64601C5A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B26-161E-42FF-A93B-11C24FA6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B8A-CC0C-4EDF-8C69-A5FB4794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A02-F748-42CF-AB01-31B30551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923-5329-461F-8DDF-8206A903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8F3-80C2-4FBD-AB61-AFA0563C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2E5-A4FD-4E83-8B8C-8D896A51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249-AED1-48C9-91CC-E75B4C15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552-98CF-4C99-914E-FC3E83BD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657-C4F2-4DAF-9AEE-FD8FA097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DF2-8AEB-4935-91FC-3976BFF1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8113-FD49-4239-87A4-69D8775D0644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23800" y="1643040"/>
            <a:ext cx="8391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8 y.o. right-handed man with Hx of grade II tumor Tx by resection and chemotherapy, presents 7 yrs later with head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s bifront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shows grade III oligoastrocytoma with maligna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le 1"/>
          <p:cNvSpPr/>
          <p:nvPr/>
        </p:nvSpPr>
        <p:spPr>
          <a:xfrm>
            <a:off x="304920" y="66996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4724280" y="1905120"/>
            <a:ext cx="4191120" cy="37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1"/>
          <p:cNvGrpSpPr/>
          <p:nvPr/>
        </p:nvGrpSpPr>
        <p:grpSpPr>
          <a:xfrm>
            <a:off x="304920" y="2057400"/>
            <a:ext cx="8839080" cy="3276720"/>
            <a:chOff x="304920" y="2057400"/>
            <a:chExt cx="8839080" cy="3276720"/>
          </a:xfrm>
        </p:grpSpPr>
        <p:graphicFrame>
          <p:nvGraphicFramePr>
            <p:cNvPr id="96" name=""/>
            <p:cNvGraphicFramePr/>
            <p:nvPr/>
          </p:nvGraphicFramePr>
          <p:xfrm>
            <a:off x="304920" y="2057400"/>
            <a:ext cx="7631640" cy="315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057400"/>
                      <a:ext cx="7631640" cy="31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8" name="Picture 4" descr=""/>
            <p:cNvPicPr/>
            <p:nvPr/>
          </p:nvPicPr>
          <p:blipFill>
            <a:blip r:embed="rId3"/>
            <a:stretch/>
          </p:blipFill>
          <p:spPr>
            <a:xfrm>
              <a:off x="4652280" y="2244600"/>
              <a:ext cx="449172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55"/>
            <p:cNvSpPr/>
            <p:nvPr/>
          </p:nvSpPr>
          <p:spPr>
            <a:xfrm>
              <a:off x="4572000" y="4724640"/>
              <a:ext cx="457200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6"/>
            <p:cNvSpPr/>
            <p:nvPr/>
          </p:nvSpPr>
          <p:spPr>
            <a:xfrm>
              <a:off x="304920" y="2057400"/>
              <a:ext cx="8839080" cy="18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58"/>
            <p:cNvSpPr/>
            <p:nvPr/>
          </p:nvSpPr>
          <p:spPr>
            <a:xfrm>
              <a:off x="4648320" y="232092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9"/>
            <p:cNvSpPr/>
            <p:nvPr/>
          </p:nvSpPr>
          <p:spPr>
            <a:xfrm>
              <a:off x="8991720" y="224460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s small high grade tumor in left parietal l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shows with grade IV tumor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Is cure possible?  How much is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re operative 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447920" y="2217600"/>
            <a:ext cx="62578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ost operative 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684440" y="2244600"/>
            <a:ext cx="58039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presented with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left hemisp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gave a grade II astrocyt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immediate neurosurgical questions for managing this patient with low grade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ection result evalu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re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7" name="Picture 7" descr="MPpreanatomy.tif"/>
          <p:cNvPicPr/>
          <p:nvPr/>
        </p:nvPicPr>
        <p:blipFill>
          <a:blip r:embed="rId1"/>
          <a:stretch/>
        </p:blipFill>
        <p:spPr>
          <a:xfrm>
            <a:off x="612720" y="2771640"/>
            <a:ext cx="8039160" cy="328932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8"/>
          <p:cNvCxnSpPr/>
          <p:nvPr/>
        </p:nvCxnSpPr>
        <p:spPr>
          <a:xfrm>
            <a:off x="1446840" y="3446280"/>
            <a:ext cx="89604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Box 9"/>
          <p:cNvSpPr/>
          <p:nvPr/>
        </p:nvSpPr>
        <p:spPr>
          <a:xfrm>
            <a:off x="1857240" y="6060960"/>
            <a:ext cx="67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 T1+Gd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23800" y="164304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Low rCBV by DSC MR perfusion, no blood products except at biops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ost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7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No language comprehension or memory difficulties post-operatively</a:t>
            </a:r>
            <a:endParaRPr b="0" lang="en-US" sz="24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3" name="Picture 7" descr="MPpostanatomy.tif"/>
          <p:cNvPicPr/>
          <p:nvPr/>
        </p:nvPicPr>
        <p:blipFill>
          <a:blip r:embed="rId1"/>
          <a:stretch/>
        </p:blipFill>
        <p:spPr>
          <a:xfrm>
            <a:off x="603360" y="2771640"/>
            <a:ext cx="8084880" cy="3300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1857240" y="6060960"/>
            <a:ext cx="67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T1+Gd  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9"/>
          <p:cNvCxnSpPr/>
          <p:nvPr/>
        </p:nvCxnSpPr>
        <p:spPr>
          <a:xfrm>
            <a:off x="6930000" y="3647880"/>
            <a:ext cx="89460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3800" y="1643040"/>
            <a:ext cx="8166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presented with headaches and new onset of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left hemisp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: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What are the neurosurgical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How are surgical margins determi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How is the resection result evalu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SSpreop.jpg"/>
          <p:cNvPicPr/>
          <p:nvPr/>
        </p:nvPicPr>
        <p:blipFill>
          <a:blip r:embed="rId1"/>
          <a:stretch/>
        </p:blipFill>
        <p:spPr>
          <a:xfrm>
            <a:off x="1371600" y="1600200"/>
            <a:ext cx="5477040" cy="451332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3"/>
          <p:cNvCxnSpPr/>
          <p:nvPr/>
        </p:nvCxnSpPr>
        <p:spPr>
          <a:xfrm>
            <a:off x="3352680" y="1844640"/>
            <a:ext cx="805680" cy="82296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0" name="Straight Arrow Connector 4"/>
          <p:cNvCxnSpPr/>
          <p:nvPr/>
        </p:nvCxnSpPr>
        <p:spPr>
          <a:xfrm>
            <a:off x="3386160" y="4053960"/>
            <a:ext cx="805680" cy="82332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1" name="Straight Arrow Connector 6"/>
          <p:cNvCxnSpPr/>
          <p:nvPr/>
        </p:nvCxnSpPr>
        <p:spPr>
          <a:xfrm>
            <a:off x="5138640" y="1844640"/>
            <a:ext cx="805680" cy="82296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" name="Straight Arrow Connector 7"/>
          <p:cNvCxnSpPr/>
          <p:nvPr/>
        </p:nvCxnSpPr>
        <p:spPr>
          <a:xfrm>
            <a:off x="5184720" y="4053960"/>
            <a:ext cx="807120" cy="82332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3" name="TextBox 8"/>
          <p:cNvSpPr/>
          <p:nvPr/>
        </p:nvSpPr>
        <p:spPr>
          <a:xfrm>
            <a:off x="2106720" y="3463920"/>
            <a:ext cx="43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1             T1+Gd           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2           T2-FLAIR         rC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52280" y="1066680"/>
            <a:ext cx="8839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2 year old female presenting with a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re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2: Post-op G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le 5"/>
          <p:cNvSpPr/>
          <p:nvPr/>
        </p:nvSpPr>
        <p:spPr>
          <a:xfrm>
            <a:off x="685800" y="7700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ost)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1608120" y="1643040"/>
            <a:ext cx="5894280" cy="491004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 flipV="1">
            <a:off x="4876920" y="164268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3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23800" y="1523880"/>
            <a:ext cx="8166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y.o. right-handed man presented with major behavioral changes and then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right hemisphere with hydrocephalus. Biopsy shows Grade II astrocyt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 with low grade infiltrating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Is this resectable? Does it need debul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266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Grade II Oligoastrocytoma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83" name="Picture 3" descr="AMprepostRx.jpg"/>
          <p:cNvPicPr/>
          <p:nvPr/>
        </p:nvPicPr>
        <p:blipFill>
          <a:blip r:embed="rId1"/>
          <a:stretch/>
        </p:blipFill>
        <p:spPr>
          <a:xfrm>
            <a:off x="1641600" y="1978200"/>
            <a:ext cx="6635520" cy="4676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81360" y="2417760"/>
            <a:ext cx="1559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e 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m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ost 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562120" y="4078440"/>
            <a:ext cx="53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T1+Gd                    T2-FL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7"/>
          <p:cNvCxnSpPr/>
          <p:nvPr/>
        </p:nvCxnSpPr>
        <p:spPr>
          <a:xfrm>
            <a:off x="3757680" y="1978200"/>
            <a:ext cx="805680" cy="71496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arrow" w="med"/>
          </a:ln>
        </p:spPr>
      </p:cxnSp>
      <p:cxnSp>
        <p:nvCxnSpPr>
          <p:cNvPr id="87" name="Straight Arrow Connector 8"/>
          <p:cNvCxnSpPr/>
          <p:nvPr/>
        </p:nvCxnSpPr>
        <p:spPr>
          <a:xfrm>
            <a:off x="5892840" y="1978200"/>
            <a:ext cx="805680" cy="72432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arrow" w="med"/>
          </a:ln>
        </p:spPr>
      </p:cxnSp>
      <p:cxnSp>
        <p:nvCxnSpPr>
          <p:cNvPr id="88" name="Straight Arrow Connector 9"/>
          <p:cNvCxnSpPr/>
          <p:nvPr/>
        </p:nvCxnSpPr>
        <p:spPr>
          <a:xfrm>
            <a:off x="1732320" y="1978200"/>
            <a:ext cx="678600" cy="72432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arrow" w="med"/>
          </a:ln>
        </p:spPr>
      </p:cxnSp>
      <p:cxnSp>
        <p:nvCxnSpPr>
          <p:cNvPr id="89" name="Straight Arrow Connector 10"/>
          <p:cNvCxnSpPr/>
          <p:nvPr/>
        </p:nvCxnSpPr>
        <p:spPr>
          <a:xfrm flipH="1" flipV="1">
            <a:off x="7686360" y="6019200"/>
            <a:ext cx="543600" cy="432360"/>
          </a:xfrm>
          <a:prstGeom prst="straightConnector1">
            <a:avLst/>
          </a:prstGeom>
          <a:ln w="6660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90" name="Straight Arrow Connector 15"/>
          <p:cNvCxnSpPr/>
          <p:nvPr/>
        </p:nvCxnSpPr>
        <p:spPr>
          <a:xfrm flipH="1" flipV="1">
            <a:off x="7681680" y="3733200"/>
            <a:ext cx="543600" cy="432360"/>
          </a:xfrm>
          <a:prstGeom prst="straightConnector1">
            <a:avLst/>
          </a:prstGeom>
          <a:ln w="6660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36Z</dcterms:modified>
  <cp:revision>80</cp:revision>
  <dc:subject/>
  <dc:title>PowerPoint Presentation</dc:title>
</cp:coreProperties>
</file>